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DB4A-C896-4921-8CDE-B792DAE4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660-A420-4727-978A-A7830FDB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D489-323F-46FD-ABAE-D9A06B7D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497-9CAE-4977-8BFF-44DB02DA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E947-6A5F-44C6-8377-90E5E88E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BDC-46C0-4985-9F78-494CA32B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F1D-9CAA-4693-9232-709EDC1C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70D-11BE-45A3-82B5-0A23BABE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236D-ED45-4FA6-A22D-F8E2C909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51F-48C7-453D-85C7-80AE28A9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E77A-7312-433D-9E6A-F57339BC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777E-D8F8-4E72-AD38-C621E6DB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27E09-ED84-4BCF-A58C-553F44C39E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ussian History 1918-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Rise and Fall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y Jake Latini, Luke Marcheski and Isabelle Pillone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1918-19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918: Czar Nicholas II and his family where mur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ssia soon became the Union of Soviet Scolastic Republic (USSR or the Soviet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918-1922: Civil War between the Red Army and the White Russ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4-1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24: Lenin d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29: Stalin became the dictator of the U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39: September: WW II be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vember-USSR and Finland battle for land in the Winte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40: February: The Winter War 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96840" y="-49320"/>
            <a:ext cx="9469440" cy="7304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45-19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45-May: Berlin surrenders to the U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ust: The USA bombed Hiroshima and Nagaski which ended WW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d War 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3-Stalin dies and is taken over by Nikita Khrushch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7-The Soviet Union launches “Sputni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ace Race” 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1-Yuri Gagarin becomes the first astronaut. The Soviet Union builds a wall between East and West Berli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531720" y="0"/>
            <a:ext cx="12647520" cy="7086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1962-1980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62-The Cuban Missile Cri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64-Khrushchev was replaced by Leonid Brezhnev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65-The Soviet Union backs North Vietnam against the U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75- “The Space Race” is won by the USA by being the only nation to put a man on the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80-The USSR loses to the US in the hockey Olympics 4 to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54000" y="-7920"/>
            <a:ext cx="9198000" cy="7323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85-198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5-Mikhail Gorbachev becomes a leader of the Soviet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6-The nuclear accident in Chernoby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6-USSR launches the MIR space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-USSR withdraws from Afghanistan     the Berlin wall 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War 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90-19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0-Boris Yelstin is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-Russia becomes an independent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-Yelstin r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gone trough a lot of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t millions of dollars on “The Space Race” and Sput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had a lot of competition and ch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44:31Z</dcterms:created>
  <dc:creator> </dc:creator>
  <dc:description/>
  <dc:language>en-US</dc:language>
  <cp:lastModifiedBy> </cp:lastModifiedBy>
  <dcterms:modified xsi:type="dcterms:W3CDTF">2010-12-20T15:55:03Z</dcterms:modified>
  <cp:revision>4</cp:revision>
  <dc:subject/>
  <dc:title>Russian History 1918-2000</dc:title>
</cp:coreProperties>
</file>